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6AF0630-7EF1-4B1F-AF66-7754B9428C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E75CB3F-E35C-4F1A-AA0D-AF0709040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73540C-EFC4-4FD8-978F-0F9D05ED4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671-D582-488F-B8A4-9A4006C1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266-909A-4531-9993-5D9CC6E8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E2AF-F943-4520-9DCE-9B4F724F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C599-2D63-4FE5-B1E1-77BAA97A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C58-0C28-4F5D-A771-6E2E0D19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78F-517B-4F85-BDFE-0D581EAA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A9F-6DE2-4722-912E-CC32A8CA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383-F9D1-41D3-8F24-F4E3E142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190-1202-4C6E-BC72-419A7D26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305-ED4F-479E-A714-6B112AC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191-25B9-4709-8563-ECBFAA59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10B-DC8B-4ABA-8D2C-0AA851C0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DE2F32B-6C12-423E-99AB-FC551BC178F8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0D9AA50-5F2A-41F6-8DE9-A9912F641943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0402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0" y="76212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ust decide where each spelling word belongs in a dictionary: Beginning (A-I), Middle (J-S), End (T-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800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saurus Pract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eate a list of synonyms (words that mean the same or about the same) for 8 spelling w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 a thesaurus if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160800" y="4952880"/>
            <a:ext cx="3279600" cy="20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ange 8 nouns into plural nouns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king becomes the k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ie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in cursive tw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ust write a story using 6 words that has a character create a problem (cause) and how the problem effects oth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he Great Ball Game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4648320" y="7010280"/>
            <a:ext cx="1904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8:54Z</dcterms:created>
  <dc:creator> </dc:creator>
  <dc:description/>
  <dc:language>en-US</dc:language>
  <cp:lastModifiedBy>Mits Mits</cp:lastModifiedBy>
  <cp:lastPrinted>2009-01-26T19:09:14Z</cp:lastPrinted>
  <dcterms:modified xsi:type="dcterms:W3CDTF">2010-02-25T13:34:42Z</dcterms:modified>
  <cp:revision>7</cp:revision>
  <dc:subject/>
  <dc:title>Slide 1</dc:title>
</cp:coreProperties>
</file>